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183-A5F5-4C7E-BCC4-7C522E2A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B6B-CE43-4CA6-BAAD-FB99D10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C92-36FE-4807-B438-088428BA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B56-35E1-44F1-8A20-8B14ED6A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CF2-5900-4B17-8E7E-9C2F9D39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A58-5F6F-4099-9648-C3CD56B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F3B-AFF4-42AB-9DD9-92CA4DB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80E-7B34-40D2-8BC4-0E88DC4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AED-F8CA-49E4-961E-06FDF6D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EC3-B04A-49A0-A19A-F4FAAC9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D0F-6E91-4680-B1B9-8F6A217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AAA-5CA7-4963-8EC3-5EE2522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FBDE-83DB-4056-B470-589B46869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09680" y="-7632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58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2T18:35:01Z</dcterms:modified>
  <cp:revision>5</cp:revision>
  <dc:subject/>
  <dc:title>Slide 1</dc:title>
</cp:coreProperties>
</file>